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4E11-1693-4E27-AA18-1FC2F52F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DD80-5F37-43E4-B5AB-FAEE22AF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3F02-54A6-4233-857E-4C096E69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867-99C7-4D1F-93A9-0C360CD6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40B-A657-45D3-8001-A52F79D4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7D47-8E98-4103-80DB-EA5825AF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57D3-C5EF-4203-8A3F-468736DD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1BAB-5BDD-4F96-BAB4-BCF28CFC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6EC-FCD9-469E-882C-C3D03848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3E7-865E-4D36-8487-E8EE016C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0F1-3DAD-4CC0-9C0D-9C64665C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CAD-0A32-4B4A-AE7B-0D545C37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883E-7C17-4BC0-A00C-2C9FB15E5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2:39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-year-o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ma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knocks on the door of the clinic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e is lim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 be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sition and says with a suff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o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For 2 month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I have h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the ba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ft hip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ek the pai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ch worse an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radi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rther dow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left calf. I can not stan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ymore. Pleas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help me, paracetamol and ketoprofen did not improve my suffering at 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examination of the spine and h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on (posture, physiological curv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, calf circum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pation and percussion, Homans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of motion (outstretched = 0 ° of flexion) of the hip, knee, ank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logical status of the lower extremitie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: mo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one, reflexes, sens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ular attentio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ould be pay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ègu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muscle strength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tremities (walking on their toes / heels, getting up from the squ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fin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l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uratio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&gt; 3d FAST, ≤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d URG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mato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of hypoesthesi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l examination to tes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429000" cy="2416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638680" y="206676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38680" y="420048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295280" y="3581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t examination 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algi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 ga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e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ircumfe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umbar lor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Lasègu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50°, right n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hips and knee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e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in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duced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wer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of the left foot and big toe dorsiflex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evel 4) for 1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esthesia along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teral p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ft lower 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l examination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flexes sym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eliminary diagn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ernia dis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ondylodisc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ft hip osteo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yndroma </a:t>
            </a:r>
            <a:r>
              <a:rPr b="0" i="1" lang="sl-SI" sz="3200" spc="-1" strike="noStrike">
                <a:solidFill>
                  <a:srgbClr val="000000"/>
                </a:solidFill>
                <a:latin typeface="Arial"/>
              </a:rPr>
              <a:t>caudae equi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ich spinal nerve is affec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the next step (at 23h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rong analgesics now, prescription for further analgesia at home, referral for MRI and 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rong analgesic, improvement is expected in 1-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X-ray of the spine and then further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tmen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3 wee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t, analgesia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algesic PTH treatments (TENS,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t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I for confirmation of diagnosis and decisions regarding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urg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this particular case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ical treatment i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mer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en is emergency surgery indi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hincte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uncionally important palsy less than 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826240" y="3429000"/>
            <a:ext cx="308916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657600"/>
            <a:ext cx="5334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uch cases should be immediately referred to the hospital with emergency MRI and emergency spinal surgical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 whom would you refer such patient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(it is not emergency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ur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uro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hysical rehabilitation 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hopaedic 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 HERN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history /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nination 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not properly assess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merg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perly ref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what is urgent (sphincter, paresis ≤ 3d)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 what should be oper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ckly and what does not requir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hould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lain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natu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rse of the disease (2-3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weeks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i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itfa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tient triage without proper examination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ay in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case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hincter disorders, inaccurat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5880" y="457200"/>
            <a:ext cx="259092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5114880" cy="3400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7200" y="4038480"/>
            <a:ext cx="8458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’m so glad surgery was not required. You are such an excellent doctor who healed me in 3 weeks just by applying bioenergy with warm hands. Now I can start Pilates training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What do you do with the pati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to the hospital the nex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ine the patient and then de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scribe stronger analgesic and examine her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is important to ask in patient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is important to ask in patient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ow long has the pain been radiating to the ca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irst time in her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ver? Chill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u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SPHINCTER FUN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her diseases, medications, all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3743280"/>
            <a:ext cx="3809880" cy="311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28600" y="957240"/>
            <a:ext cx="48006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patient repl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 radiating to the calf for 10 d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times painful back and hip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s to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ver or ch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trauma or o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igger facto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at rest, even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regular medications 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er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HINCTER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fecation is rather infrequ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o every nigh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 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quarter of a watermelon and drink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1 li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f wa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eral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rination is generally 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just yesterday morning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ome urine dro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ked because of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i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did not get to the toilet on time. 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our next st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linical ex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for MRI of the left 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for MRI of the lumbar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5-01-07T05:06:45Z</dcterms:modified>
  <cp:revision>1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